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F05-4450-4212-BDA8-61AAE8BB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27F-A4AD-41CC-A9D4-0965CAC2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E26-8CBA-4EA3-8CA8-78CE2C29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6902-2AC9-4029-9A8C-9396E471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BA86-2330-4571-98E7-2F9AFCE1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1E6-73E7-4CDE-9CC6-BE163842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365-AB78-44DB-8E58-FDB8B09E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288-8BD1-4278-AABC-98373C50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5CA-665B-40CB-A2A4-5F0C1136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760-3B29-452E-A45F-F5DD237C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9DE-C757-49BA-986B-93EAD802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B3C-1399-48FA-A40A-0B686191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4D01-DD96-4E5A-BB00-FD5A8B804E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0"/>
          <p:cNvSpPr txBox="1"/>
          <p:nvPr/>
        </p:nvSpPr>
        <p:spPr>
          <a:xfrm>
            <a:off x="179280" y="333360"/>
            <a:ext cx="468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冀教版三年级英语下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6445440" y="404640"/>
            <a:ext cx="15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Unit 1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914400" y="2286000"/>
            <a:ext cx="7416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Lesson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Fish and 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276720" cy="1954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553080" y="4572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733920" y="152280"/>
            <a:ext cx="2590560" cy="2291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47920" y="380988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I can _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4"/>
          <p:cNvSpPr/>
          <p:nvPr/>
        </p:nvSpPr>
        <p:spPr>
          <a:xfrm>
            <a:off x="2411280" y="2852640"/>
            <a:ext cx="3571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f0000"/>
                </a:solidFill>
                <a:latin typeface="Comic Sans MS"/>
              </a:rPr>
              <a:t>Goodby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049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What’s this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2362320"/>
            <a:ext cx="533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It’s a 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fish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457200"/>
            <a:ext cx="647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ish  can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 swim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733560" cy="3225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5920" y="380880"/>
            <a:ext cx="60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What’s  this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62320" y="2819520"/>
            <a:ext cx="497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It’s a 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bird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343400" cy="3840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1828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irds can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fly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343400" cy="3840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48320" y="2057400"/>
            <a:ext cx="37335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333399"/>
                </a:solidFill>
                <a:latin typeface="Arial"/>
              </a:rPr>
              <a:t>fly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715000" cy="3409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666880" y="38088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swi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753000" cy="3753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1143000"/>
            <a:ext cx="33526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333399"/>
                </a:solidFill>
                <a:latin typeface="Arial"/>
              </a:rPr>
              <a:t>sing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38088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Can  you  swim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1447920"/>
            <a:ext cx="5181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905120"/>
            <a:ext cx="541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Yes, I ca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65760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No, I can’t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4-29T10:42:49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